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735-A860-47B9-BCF8-EECB291A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AFA-E212-452D-B309-30A43204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A667D-177B-4C57-A344-6F0027E9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982E4-40D7-4EF3-A010-76CACC48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CC152-AC36-45CC-8A41-FF9ADA0C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FAABE-B0F7-4AE7-BD42-E1FF738C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27397-3C09-4EE5-A64D-6088AD23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A0699-0162-4B6C-B893-F578FADD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3F617-6223-4057-98AA-0A6D9BB2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A42F8-D868-43C5-9628-A761CD71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F763A-F0F1-41E6-9B9D-A89ADDBB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489F1-BA3C-4E0B-8420-5FD9F5B4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700-9901-496C-B683-7D9C86C8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B2450-9F0E-49A2-A4F9-1BDC303E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64A2A-B09C-45AB-92D8-D9CA2921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D491A-094F-45F5-9C55-841DD82F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B6568-B7F0-4231-AEC2-E7F1A43F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6012D-29DB-4220-A56E-E0C48D5E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2B2C8-549B-4E08-8F25-4138DC2C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26709-9D3F-4CBF-9954-8F72043B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84BFB-0303-4804-BBB7-220C2604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48749-235F-4633-842E-D85F6498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4F525-BD76-431C-8381-FEF502C3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D18-5178-44C5-BBA8-0DF1B08C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569B5-292A-46F1-910B-5A9919EA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616B5-11F1-41E3-B74B-8AFE6ECB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5CF94-D938-4C09-AF29-03C1CD45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34900-F745-461A-8440-8F479B7E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06090-30DB-49AA-94C3-24FAF71E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F3381-02EC-4EDF-9A7C-F010148C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BA375-44AB-40C7-9E5B-2894BA5F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A15F5-01D4-455C-A954-7F7FC82E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9CC22-DEB9-4080-AEA8-36348CEE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4AE91-B602-4B39-A003-DFA6F641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8372-8ADB-46A0-8331-063D47F1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58583-5E3E-4508-A2F0-ED523E11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C5FAA-4720-4C33-8CA5-42B7DD43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C9B39-1D00-4E6F-9C8E-C6DB22EA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1CCFD-2A0A-40CA-A2D8-A4E2ABB3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A4B13-420C-47FA-859E-49C6D0BC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BE57F-F68E-4566-BA68-9FB5252F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8FCE8-046C-461F-B8B4-5CA63547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E3825-7456-404A-8AA6-F23AF309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1E35F-FC0C-4242-8FC5-17B4F04A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1898C-A9AC-48DC-8CA2-7FB65DAA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935E-DFE1-47F5-895E-E97B15F1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0A250-FABD-4E9F-828E-13615E03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F38B9-FF7B-4B0F-8FFD-8E755610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4A0B4-228C-418F-A53A-2FEEF899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134FC-971F-491E-B3EB-B2A247F5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2B74F-1CF7-453C-BB70-2BDC6259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6177-AB54-434C-9D14-C832E68D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208C-5E2D-402B-81F2-F8CA459F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4BE7-1A3C-4766-846A-5BD0B86A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610E-81C5-46AA-B27F-31026E4E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732B-83FB-41D6-8B49-64E64919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FF9-94F8-4FF9-97DD-314E305D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B42C-103E-4B4D-9656-8DDC0A4E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78F8-F38A-4D5A-A2D5-E1507E24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10EC-1AB3-4F75-A741-58B48540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0E93-660E-47DB-8201-BE7AB0EA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6F1B-F17C-4941-875C-FC388C9A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867BD-926E-47E1-905B-0F70A5AA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047F7-A650-49C5-8E76-F42EE0D2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02868-2A8B-4452-9FED-34AA0439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7F4E-B22B-4502-8AB8-3C0D1CC1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674A1-EB87-4851-BF80-F42BCDD6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F9EF-1E19-488E-AC49-CFABABAE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C79A1-53B1-4C58-9B6A-CE03D7D8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19EBD-BF4B-4F04-907E-6F676CD7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A2EB2-B875-4F18-A99C-10142269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9CFC0-73F5-4F1E-A98E-FF9360E8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53A63-5756-46E9-AFBD-66A34179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64B0-B552-4E3A-85AE-D2C8925F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304CE-0BD7-46C3-90B9-7A8A3211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2BD9A-8DE6-4971-BAF9-133115B6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88FAF-C664-4F69-89E1-44C5B471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F3D9F-2878-4010-B775-608910E1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B2D-C26A-4587-814A-02373783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6699E-45EE-45C4-9B43-BA0D17A7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5E1B0-E6B9-4069-98B3-2E5D287C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97E76-3C89-4886-9CEE-53232C2F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50794-9F0A-4D99-BD76-99F2C67D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8B774-0339-4A53-A235-40B917A4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C3808-6091-493E-AB3B-BE7BC8D4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4A08A-C592-4DB2-A858-164F64EB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60802-998E-4F2C-9ACF-73D4299F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39C7B-E7B2-4CE0-BB65-A401B056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5456D-2273-4B7F-B952-CD56157E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E80-BBEA-454E-9934-E5AA61F8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041AD-FE4D-44C0-B278-536D5FE5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3B009-EDF8-46F3-8C58-8885B491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17AD3-C06F-4C52-90D0-04374B19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DF252-EA23-459A-9DF5-D9A29ED0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89F0A-B4D6-418F-B5A5-DA62B4AB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C1A43-A522-4CE2-9695-48AB3683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E791E-B67B-4064-BA35-82B1DB14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A895C-542C-456D-93E9-2F589EA8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4DEE5-6AC2-4EAE-B8A5-AC9F70EF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BBC00-D7D1-4B67-B01C-E92EB81A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465-EFCC-418A-B777-5EA62F8F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FF289-D690-4B4A-AF83-9DB9A427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EF1EF-0648-4A7D-B4E1-E669CBCE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AE54E-4DA1-456C-89C8-2C90AF70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8577F-CFE9-43F8-8700-F6D76333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796D6-805E-4F7E-8B03-5A785A39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3BC34-B992-4A2A-A15B-65047352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3F24C-F4D8-4C24-BBE7-77C26627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138AF-E8A7-44B4-9DD1-B64B9C10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19303-2967-4F57-A07D-0A8028FF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77603-9EB8-4C72-AC49-9949EC66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0839-C20A-4FC4-AEE8-BD2A4D16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4CC52-F090-4DD7-855E-9EDD6EF2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B97D6-6F5C-4F2F-90CB-FE60867F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8FF77-B143-4F35-81A4-87F1DD2F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B9854-9DED-4206-9F59-F4F2D85F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9C8D8-8EF4-4105-B043-44A9BB42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0CBC7-52C0-4D3E-8796-0D706846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0B9CC-F469-49C6-8F43-57D88FA1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ECCDF-569C-4C98-8905-BFA64B3F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4E600-423F-4A76-8E82-25C51C3C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3AB06-F5D0-4455-BE89-CCD6407E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CCF-1DAC-4B83-A99F-569E765B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9FFE2-DFFA-4078-8DC2-482B613A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612EA-1A63-4636-8478-A96C0943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13C72-C718-40D8-8152-E9FB26EA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434ED-5810-4200-93C9-ABB405FA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BB9C7-F088-47E8-9B33-24F25AED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9607C-938A-4D6E-8F64-A72C4735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1C8BF-404E-418A-B2D4-E50522C9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357C3-2C4E-4B7D-8C7B-DF4A6CC7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84831-D0F5-454B-8CA6-9DCBCC87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DEB14-ECEC-4E99-A809-1024D1B8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E29-BDED-4E76-9CEC-BE883958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F4E19-82E0-4DB9-9FDC-F1CAEB69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EDF84-32AB-4F12-8300-AB0945E3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B3227-A312-4A0C-B8C6-88CB2156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C0DAA-E44A-474A-9D2B-0F1D2158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44768-CAF3-4C7D-8617-315DC3E3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3FCF2-B377-4632-8953-BDC8B8B0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B624E-72DC-4CE4-9F35-2B75919D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EEB45-4218-4518-BA17-A846D075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B1796-8DF9-438B-894F-826C875C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2664F-00D1-40AC-B91E-E0E64605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9DCC-D9C2-40DA-9498-1BEA7FE7E40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8CF4-AEAE-4523-883A-2CF2C128456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4519-21ED-48D9-A3A4-9839E835197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B1AB-6345-47D1-B53E-A19C0CB3F5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FEE0-A5F5-4B64-9E38-B6713E17A49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3FFE-F0EC-45B6-A0DF-F3C175BC1D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0805-087A-40DF-8D8E-3AC4064A4C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C6AF-5D7E-4547-8913-631A09C6D58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61A0-A22A-41CC-B03B-13E08F9E3A3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D152-6E17-433D-93DA-209A9BEE257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7F47-77AA-4370-9B9A-9BC96FFC03B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9B2A-3D56-4AD5-A4EF-A1E50B3A976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45 Do diaľav sveta, Boží ľ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diaľav sveta, Boží ľu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 radostnú zvesť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je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k nemá biedne zahynú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počuť chce dnes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í hlas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pravdy Božej pochod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 svetla svetu prináš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šíri radosť deň čo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mračná dušu povznáš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z závoj sĺz smie nádej zrie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Boží maják v príboj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čuť spásne slovo zn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rany sveta zahojí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spáse túžia zástup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ch milosť Božia nasý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zloba pravde ustúp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 lásky srdce pocít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8T16:07:17Z</dcterms:modified>
  <cp:revision>50</cp:revision>
  <dc:subject/>
  <dc:title>Je veľký náš Pán, on slávy je Kráľ Nech do všetkých strán  spev vrúcnych znie chvál.</dc:title>
</cp:coreProperties>
</file>